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1982a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3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9BFB2-C01F-42D2-95EC-4CB1D130E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58744-0440-4C42-9539-954E25CB8255}" type="slidenum">
              <a:rPr b="0" lang="en-US" sz="1200" spc="-1" strike="noStrike">
                <a:solidFill>
                  <a:srgbClr val="1982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914400" y="721800"/>
            <a:ext cx="7315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76948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2492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91440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76948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462492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914400" y="721800"/>
            <a:ext cx="7315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6948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2492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6948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62492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76948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2492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91440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76948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462492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721800"/>
            <a:ext cx="7315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6948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2492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76948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62492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721800"/>
            <a:ext cx="7315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76948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2492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1440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276948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462492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914400" y="721800"/>
            <a:ext cx="7315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6948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492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91440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6948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62492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914400" y="721800"/>
            <a:ext cx="7315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721800"/>
            <a:ext cx="7315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76948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2492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91440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276948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462492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914400" y="721800"/>
            <a:ext cx="7315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76948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2492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1440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276948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462492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914400" y="721800"/>
            <a:ext cx="7315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76948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2492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91440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276948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462492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914400" y="721800"/>
            <a:ext cx="73152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14400" y="3380760"/>
            <a:ext cx="548640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726000" y="19479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726000" y="3380760"/>
            <a:ext cx="26773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76948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24920" y="19479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91440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76948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4624920" y="3380760"/>
            <a:ext cx="176652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5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1982a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20960" indent="-12096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1" marL="1209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2" marL="2811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3" marL="51984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4" marL="757440" indent="-12312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5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6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SectionSlide_Bkgr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Straight Connector 4"/>
          <p:cNvSpPr/>
          <p:nvPr/>
        </p:nvSpPr>
        <p:spPr>
          <a:xfrm>
            <a:off x="5943600" y="5486400"/>
            <a:ext cx="32004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58" name="Straight Connector 5"/>
          <p:cNvSpPr/>
          <p:nvPr/>
        </p:nvSpPr>
        <p:spPr>
          <a:xfrm>
            <a:off x="5943600" y="5257800"/>
            <a:ext cx="32004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982af"/>
              </a:solidFill>
              <a:latin typeface="Arial"/>
            </a:endParaRPr>
          </a:p>
        </p:txBody>
      </p:sp>
      <p:pic>
        <p:nvPicPr>
          <p:cNvPr id="359" name="Picture 6" descr=""/>
          <p:cNvPicPr/>
          <p:nvPr/>
        </p:nvPicPr>
        <p:blipFill>
          <a:blip r:embed="rId3"/>
          <a:stretch/>
        </p:blipFill>
        <p:spPr>
          <a:xfrm>
            <a:off x="6470640" y="5702400"/>
            <a:ext cx="1824120" cy="6206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1982a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20960" indent="-12096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1" marL="1209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2" marL="2811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3" marL="51984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4" marL="757440" indent="-12312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5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6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DiscoveringWorld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"/>
          <p:cNvPicPr/>
          <p:nvPr/>
        </p:nvPicPr>
        <p:blipFill>
          <a:blip r:embed="rId3"/>
          <a:stretch/>
        </p:blipFill>
        <p:spPr>
          <a:xfrm>
            <a:off x="6470640" y="5702400"/>
            <a:ext cx="1824120" cy="620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1982a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20960" indent="-12096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1" marL="1209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2" marL="2811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3" marL="51984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4" marL="757440" indent="-12312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5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6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71000" cy="6878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6470640" y="5702400"/>
            <a:ext cx="1824120" cy="620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1982a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20960" indent="-12096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1" marL="1209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2" marL="2811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3" marL="51984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4" marL="757440" indent="-12312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5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6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58400" cy="6869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6470640" y="5702400"/>
            <a:ext cx="1824120" cy="620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1982a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20960" indent="-12096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1" marL="1209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2" marL="2811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3" marL="51984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4" marL="757440" indent="-12312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5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6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58400" cy="686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6470640" y="5702400"/>
            <a:ext cx="1824120" cy="620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1982a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20960" indent="-12096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1" marL="1209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2" marL="2811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3" marL="51984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4" marL="757440" indent="-12312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5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6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58400" cy="6869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3"/>
          <a:stretch/>
        </p:blipFill>
        <p:spPr>
          <a:xfrm>
            <a:off x="6470640" y="5702400"/>
            <a:ext cx="1824120" cy="620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1982a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20960" indent="-12096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1" marL="1209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2" marL="2811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3" marL="51984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4" marL="757440" indent="-12312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5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6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logoSlideBack.jpg"/>
          <p:cNvPicPr/>
          <p:nvPr/>
        </p:nvPicPr>
        <p:blipFill>
          <a:blip r:embed="rId2"/>
          <a:stretch/>
        </p:blipFill>
        <p:spPr>
          <a:xfrm>
            <a:off x="0" y="0"/>
            <a:ext cx="9158400" cy="6869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3"/>
          <a:stretch/>
        </p:blipFill>
        <p:spPr>
          <a:xfrm>
            <a:off x="914400" y="685800"/>
            <a:ext cx="1825560" cy="62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1982a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20960" indent="-12096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1" marL="1209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2" marL="2811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3" marL="51984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4" marL="757440" indent="-12312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5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6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6470640" y="5702400"/>
            <a:ext cx="1824120" cy="6206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1982a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20960" indent="-12096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1" marL="1209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2" marL="2811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3" marL="51984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4" marL="757440" indent="-12312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5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6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6470640" y="5702400"/>
            <a:ext cx="1824120" cy="620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721800"/>
            <a:ext cx="73152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1982a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194796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20960" indent="-12096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1" marL="1209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2" marL="28116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3" marL="519840" indent="-12096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4" marL="757440" indent="-123120">
              <a:spcBef>
                <a:spcPts val="300"/>
              </a:spcBef>
              <a:spcAft>
                <a:spcPts val="1199"/>
              </a:spcAft>
              <a:buClr>
                <a:srgbClr val="105572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5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6" marL="757440" indent="-123120">
              <a:spcBef>
                <a:spcPts val="300"/>
              </a:spcBef>
              <a:spcAft>
                <a:spcPts val="1199"/>
              </a:spcAft>
              <a:buClr>
                <a:srgbClr val="1982af"/>
              </a:buClr>
              <a:buSzPct val="80000"/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1982a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44280" y="463680"/>
            <a:ext cx="704196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4000" spc="-1" strike="noStrike">
                <a:solidFill>
                  <a:srgbClr val="ffffff"/>
                </a:solidFill>
                <a:latin typeface="Arial"/>
              </a:rPr>
              <a:t>GI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RS" sz="4000" spc="-1" strike="noStrike">
                <a:solidFill>
                  <a:srgbClr val="ffffff"/>
                </a:solidFill>
                <a:latin typeface="Arial"/>
              </a:rPr>
              <a:t>na </a:t>
            </a:r>
            <a:br>
              <a:rPr sz="4000"/>
            </a:br>
            <a:r>
              <a:rPr b="1" lang="sr-Latn-RS" sz="4000" spc="-1" strike="noStrike">
                <a:solidFill>
                  <a:srgbClr val="ffffff"/>
                </a:solidFill>
                <a:latin typeface="Arial"/>
              </a:rPr>
              <a:t>Geografskom fakultetu Univerziteta u Beogradu</a:t>
            </a:r>
            <a:endParaRPr b="1" lang="en-US" sz="40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944640" y="3246480"/>
            <a:ext cx="56563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  <a:ea typeface="Avenir LT Std 65 Medium"/>
              </a:rPr>
              <a:t>Sanja Stojković</a:t>
            </a:r>
            <a:endParaRPr b="0" lang="en-US" sz="2000" spc="-1" strike="noStrike">
              <a:solidFill>
                <a:srgbClr val="1982af"/>
              </a:solidFill>
              <a:latin typeface="Arial"/>
            </a:endParaRPr>
          </a:p>
          <a:p>
            <a:pPr indent="0"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  <a:ea typeface="Avenir LT Std 65 Medium"/>
              </a:rPr>
              <a:t>sanj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venir LT Std 65 Medium"/>
              </a:rPr>
              <a:t>@gef.bg.ac.rs</a:t>
            </a:r>
            <a:endParaRPr b="0" lang="en-US" sz="2000" spc="-1" strike="noStrike">
              <a:solidFill>
                <a:srgbClr val="1982af"/>
              </a:solidFill>
              <a:latin typeface="Arial"/>
            </a:endParaRPr>
          </a:p>
        </p:txBody>
      </p:sp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0" y="4213080"/>
            <a:ext cx="5616720" cy="23608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"/>
          <p:cNvSpPr/>
          <p:nvPr/>
        </p:nvSpPr>
        <p:spPr>
          <a:xfrm>
            <a:off x="7529400" y="4357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1982af"/>
                </a:solidFill>
                <a:latin typeface="Arial"/>
              </a:rPr>
              <a:t>Univerzitet u Beogradu</a:t>
            </a:r>
            <a:endParaRPr b="0" lang="en-US" sz="1400" spc="-1" strike="noStrike">
              <a:solidFill>
                <a:srgbClr val="1982af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1982af"/>
                </a:solidFill>
                <a:latin typeface="Arial"/>
              </a:rPr>
              <a:t>Građevinski fakultet</a:t>
            </a:r>
            <a:endParaRPr b="0" lang="en-US" sz="1400" spc="-1" strike="noStrike">
              <a:solidFill>
                <a:srgbClr val="1982af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1982af"/>
                </a:solidFill>
                <a:latin typeface="Arial"/>
              </a:rPr>
              <a:t>18.11.2015.</a:t>
            </a:r>
            <a:endParaRPr b="0" lang="en-US" sz="14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28880" y="2184480"/>
            <a:ext cx="4114800" cy="13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GIS u nastavi i nauci</a:t>
            </a:r>
            <a:endParaRPr b="1" lang="en-US" sz="4000" spc="-1" strike="noStrike">
              <a:solidFill>
                <a:srgbClr val="1982af"/>
              </a:solidFill>
              <a:latin typeface="Arial"/>
            </a:endParaRPr>
          </a:p>
        </p:txBody>
      </p:sp>
      <p:pic>
        <p:nvPicPr>
          <p:cNvPr id="410" name="Picture 5" descr="Fotolia_34907824_Subscription_XXL.jpg"/>
          <p:cNvPicPr/>
          <p:nvPr/>
        </p:nvPicPr>
        <p:blipFill>
          <a:blip r:embed="rId1"/>
          <a:stretch/>
        </p:blipFill>
        <p:spPr>
          <a:xfrm>
            <a:off x="5494320" y="0"/>
            <a:ext cx="3649680" cy="51246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Fotolia_25769239_Subscription_XL.jpg"/>
          <p:cNvPicPr/>
          <p:nvPr/>
        </p:nvPicPr>
        <p:blipFill>
          <a:blip r:embed="rId2"/>
          <a:stretch/>
        </p:blipFill>
        <p:spPr>
          <a:xfrm>
            <a:off x="5481720" y="0"/>
            <a:ext cx="3662280" cy="512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07600"/>
            <a:ext cx="73152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3400" spc="-1" strike="noStrike">
                <a:solidFill>
                  <a:srgbClr val="1982af"/>
                </a:solidFill>
                <a:latin typeface="Arial"/>
              </a:rPr>
              <a:t>Prvi koraci</a:t>
            </a: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14040" y="1377720"/>
            <a:ext cx="814716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1360" indent="-1713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teorijska istraživanja i nastava – 1990. god. </a:t>
            </a:r>
            <a:br>
              <a:rPr sz="2600"/>
            </a:b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(studijska grupa Prostorno planiranje)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marL="171360" indent="-1713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naučno istraživački rad – 1995. god. </a:t>
            </a:r>
            <a:br>
              <a:rPr sz="2600"/>
            </a:b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(Centar za životnu sredinu i GIS)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marL="171360" indent="-1713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praktična nastava – 2000. god. </a:t>
            </a:r>
            <a:br>
              <a:rPr sz="2600"/>
            </a:b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(računarska laboratorija i studijska grupa GOŽS)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marL="171360" indent="-1713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institucionalno – 2006. god. Katedra za GI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sklopu Instituta za životnu sredinu i GIS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890640" y="5616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Univerzitet u Beogradu</a:t>
            </a:r>
            <a:endParaRPr b="0" lang="en-US" sz="1400" spc="-1" strike="noStrike">
              <a:solidFill>
                <a:srgbClr val="1982af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Građevinski fakultet</a:t>
            </a:r>
            <a:endParaRPr b="0" lang="en-US" sz="1400" spc="-1" strike="noStrike">
              <a:solidFill>
                <a:srgbClr val="1982af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18.11.2015.</a:t>
            </a:r>
            <a:endParaRPr b="0" lang="en-US" sz="14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914040" y="1200240"/>
            <a:ext cx="814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3160" indent="-1731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predmeti na osnovnim i master studijama: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lvl="1" marL="228600">
              <a:lnSpc>
                <a:spcPts val="2699"/>
              </a:lnSpc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Uvod u GIS, GIS u prostornom planiranju, Napredni GIS, GIS i turizam, Geoprostorne baze podataka, Teledetekcione metode istraživanja životne sredine, Ekološki informacioni sistemi, GIS,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onitoring i oditing životne sredine</a:t>
            </a: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, Daljinska detekcija u geografiji, Urbana i ruralna geografija, Tematsko kartiranje, Urbanistička regulacija naselja, Digitalno kartiranje životne sredine, Monitoring zemljišta i vode, Ekogeomorfologija...</a:t>
            </a:r>
            <a:endParaRPr b="0" lang="en-US" sz="2600" spc="-1" strike="noStrike">
              <a:solidFill>
                <a:srgbClr val="1982af"/>
              </a:solidFill>
              <a:latin typeface="Avenir LT Std 55 Roman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890640" y="5616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Univerzitet u Beogradu</a:t>
            </a:r>
            <a:endParaRPr b="0" lang="en-US" sz="1400" spc="-1" strike="noStrike">
              <a:solidFill>
                <a:srgbClr val="1982af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Građevinski fakultet</a:t>
            </a:r>
            <a:endParaRPr b="0" lang="en-US" sz="1400" spc="-1" strike="noStrike">
              <a:solidFill>
                <a:srgbClr val="1982af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18.11.2015.</a:t>
            </a:r>
            <a:endParaRPr b="0" lang="en-US" sz="1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417" name="Title 35"/>
          <p:cNvSpPr/>
          <p:nvPr/>
        </p:nvSpPr>
        <p:spPr>
          <a:xfrm>
            <a:off x="914400" y="507960"/>
            <a:ext cx="73152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3400" spc="-1" strike="noStrike">
                <a:solidFill>
                  <a:srgbClr val="1982af"/>
                </a:solidFill>
                <a:latin typeface="Arial"/>
                <a:ea typeface="Avenir LT Std 55 Roman"/>
              </a:rPr>
              <a:t>Presek trenutnog stanja</a:t>
            </a:r>
            <a:endParaRPr b="0" lang="en-US" sz="34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4"/>
          <p:cNvSpPr/>
          <p:nvPr/>
        </p:nvSpPr>
        <p:spPr>
          <a:xfrm>
            <a:off x="890640" y="5616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Univerzitet u Beogradu</a:t>
            </a:r>
            <a:endParaRPr b="0" lang="en-US" sz="1400" spc="-1" strike="noStrike">
              <a:solidFill>
                <a:srgbClr val="1982af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Građevinski fakultet</a:t>
            </a:r>
            <a:endParaRPr b="0" lang="en-US" sz="1400" spc="-1" strike="noStrike">
              <a:solidFill>
                <a:srgbClr val="1982af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18.11.2015.</a:t>
            </a:r>
            <a:endParaRPr b="0" lang="en-US" sz="1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419" name="Title 35"/>
          <p:cNvSpPr/>
          <p:nvPr/>
        </p:nvSpPr>
        <p:spPr>
          <a:xfrm>
            <a:off x="914400" y="507960"/>
            <a:ext cx="73152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3400" spc="-1" strike="noStrike">
                <a:solidFill>
                  <a:srgbClr val="1982af"/>
                </a:solidFill>
                <a:latin typeface="Arial"/>
                <a:ea typeface="Avenir LT Std 55 Roman"/>
              </a:rPr>
              <a:t>... </a:t>
            </a:r>
            <a:endParaRPr b="0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420" name="Content Placeholder 53"/>
          <p:cNvSpPr/>
          <p:nvPr/>
        </p:nvSpPr>
        <p:spPr>
          <a:xfrm>
            <a:off x="923760" y="1127160"/>
            <a:ext cx="814716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3160" indent="-17316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  <a:ea typeface="Avenir LT Std 55 Roman"/>
              </a:rPr>
              <a:t>predmeti na doktorskim studijama:</a:t>
            </a:r>
            <a:br>
              <a:rPr sz="2600"/>
            </a:br>
            <a:r>
              <a:rPr b="0" lang="nb-NO" sz="2600" spc="-1" strike="noStrike">
                <a:solidFill>
                  <a:srgbClr val="000000"/>
                </a:solidFill>
                <a:latin typeface="Arial"/>
                <a:ea typeface="Avenir LT Std 55 Roman"/>
              </a:rPr>
              <a:t>Teorija životne sredine i GIS</a:t>
            </a:r>
            <a:r>
              <a:rPr b="0" lang="sr-Latn-RS" sz="2600" spc="-1" strike="noStrike">
                <a:solidFill>
                  <a:srgbClr val="000000"/>
                </a:solidFill>
                <a:latin typeface="Arial"/>
                <a:ea typeface="Avenir LT Std 55 Roman"/>
              </a:rPr>
              <a:t>, Metodologija geoprostornih istraživanja životne sredine i GIS,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  <a:ea typeface="Avenir LT Std 55 Roman"/>
              </a:rPr>
              <a:t>Primena GIS-a u istraživanjima i zaštiti geoprostora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  <a:ea typeface="Avenir LT Std 55 Roman"/>
              </a:rPr>
              <a:t>diplomski/završni i master radovi 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sr-Latn-RS" sz="2600" spc="-1" strike="noStrike">
                <a:solidFill>
                  <a:srgbClr val="000000"/>
                </a:solidFill>
                <a:latin typeface="Arial"/>
                <a:ea typeface="Avenir LT Std 55 Roman"/>
              </a:rPr>
              <a:t> 5/god.</a:t>
            </a:r>
            <a:br>
              <a:rPr sz="2600"/>
            </a:br>
            <a:r>
              <a:rPr b="0" lang="sr-Latn-RS" sz="2600" spc="-1" strike="noStrike">
                <a:solidFill>
                  <a:srgbClr val="000000"/>
                </a:solidFill>
                <a:latin typeface="Arial"/>
                <a:ea typeface="Avenir LT Std 55 Roman"/>
              </a:rPr>
              <a:t>doktorskih disertacija 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sr-Latn-RS" sz="2600" spc="-1" strike="noStrike">
                <a:solidFill>
                  <a:srgbClr val="000000"/>
                </a:solidFill>
                <a:latin typeface="Arial"/>
                <a:ea typeface="Avenir LT Std 55 Roman"/>
              </a:rPr>
              <a:t> 10 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  <a:ea typeface="Avenir LT Std 55 Roman"/>
              </a:rPr>
              <a:t>naučno istraživački rad – radovi mladih istraživača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  <a:ea typeface="Avenir LT Std 55 Roman"/>
              </a:rPr>
              <a:t>uspešna saradnja sa brojnim institucijama na nacionalnom i međunarodnom nivou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495000"/>
            <a:ext cx="73152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3400" spc="-1" strike="noStrike">
                <a:solidFill>
                  <a:srgbClr val="1982af"/>
                </a:solidFill>
                <a:latin typeface="Arial"/>
              </a:rPr>
              <a:t>Šta nas očekuje?</a:t>
            </a:r>
            <a:endParaRPr b="1" lang="en-US" sz="34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040" y="1414080"/>
            <a:ext cx="8147160" cy="35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3160" indent="-1731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otvaranje nove računarske laboratorije u 2016. g. 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rešavanje kadrovskih problema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novi GIS predmeti 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učešće na međunarodnim projektima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vidimo se na GIS DANU 2016. god. u organizaciji Univerziteta u Beogradu – Geografskog fakulteta</a:t>
            </a:r>
            <a:endParaRPr b="0" lang="en-US" sz="2600" spc="-1" strike="noStrike">
              <a:solidFill>
                <a:srgbClr val="1982af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890640" y="5616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Univerzitet u Beogradu</a:t>
            </a:r>
            <a:endParaRPr b="0" lang="en-US" sz="1400" spc="-1" strike="noStrike">
              <a:solidFill>
                <a:srgbClr val="1982af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Građevinski fakultet</a:t>
            </a:r>
            <a:endParaRPr b="0" lang="en-US" sz="1400" spc="-1" strike="noStrike">
              <a:solidFill>
                <a:srgbClr val="1982af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18.11.2015.</a:t>
            </a:r>
            <a:endParaRPr b="0" lang="en-US" sz="1400" spc="-1" strike="noStrike">
              <a:solidFill>
                <a:srgbClr val="1982a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6:04:06Z</dcterms:created>
  <dc:creator>ESRI Employee</dc:creator>
  <dc:description/>
  <dc:language>en-US</dc:language>
  <cp:lastModifiedBy>Pepesh</cp:lastModifiedBy>
  <cp:lastPrinted>2011-02-10T16:43:45Z</cp:lastPrinted>
  <dcterms:modified xsi:type="dcterms:W3CDTF">2015-11-17T19:22:23Z</dcterms:modified>
  <cp:revision>82</cp:revision>
  <dc:subject/>
  <dc:title>Safe Area — Please Read</dc:title>
</cp:coreProperties>
</file>